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70F-951C-4FF4-92A3-511098365C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F295-47FD-48CA-BBC4-9FC6FC1A72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68EC-B683-4FC2-827B-BF321FE8C6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2069-F9C0-4C8E-B4BC-0AE3C515E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345-06B7-4F50-A9ED-6CD5672C86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A220-718A-4FF0-9165-603FF8967D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28D-0853-4E78-88C4-AE9FA0C5E1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B28-3EC4-4AAB-B0BE-52010D9761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6671-C007-423E-B1BC-CEFCB782AA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2B51-EEBD-4737-9247-B45CFBEB4B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EB9-17BD-4025-A6C4-66AA9D2A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C02-0F50-4953-89AB-171E9E50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BE1-9EF8-4BE4-A158-1D133B27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96-FE9B-45C0-8B7A-A01E275E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B5B-87C0-4F93-922E-D0495945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972-F367-444B-A45F-CC9F9FA0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B448-F9F2-4769-8155-9E47E7DF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7E55-D82A-4BA4-A888-45159CE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7B1-239B-4E08-98EF-D03CC77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BAFF-B648-47CA-8F49-18F58D0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247-C186-47E5-86CF-2ACC813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1F0-3639-4F4C-AC29-38CE961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696B-DCDB-4FDE-9290-A956D55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204D-9F63-4C0D-96ED-738866A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D746-EF33-41B2-BBCF-D9DBDF81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E95C-BF0D-4C27-BD71-57F9B77C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FC28-5869-45C6-92F0-5304955A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40A-D5B8-48C6-BCBA-78C5BF4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138-416F-4243-8E01-5CA7695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BA4-2513-4329-9702-66D71916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A10-41F2-4582-8052-C94340C8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1B7-4F53-4ACD-B11A-8C2287E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3D2-969C-411D-9AF1-8DB1BE6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F03-EFB3-4514-A8E7-BB37C8D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7EC5-62EE-46E8-9B35-E4EA88218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7356-2999-4180-8296-1401622F12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Х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7143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Х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6989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7215120" cy="1357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3000240" y="228600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786040" y="228600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571120" y="2214720"/>
            <a:ext cx="7858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428920" y="2286000"/>
            <a:ext cx="71424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357280" y="250020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357280" y="2786040"/>
            <a:ext cx="50040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356560" y="3071880"/>
            <a:ext cx="3574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357280" y="3357720"/>
            <a:ext cx="2145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3286080" y="2428920"/>
            <a:ext cx="2858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92904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4000680" y="257184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4000680" y="271476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92904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92904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857400" y="3142800"/>
            <a:ext cx="9291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857760" y="3286080"/>
            <a:ext cx="9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857760" y="342900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857760" y="357192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5286240" y="2357280"/>
            <a:ext cx="1000440" cy="5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5214960" y="228600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5143680" y="2214720"/>
            <a:ext cx="100008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507204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507204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507132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507132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5072040" y="2214720"/>
            <a:ext cx="144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2"/>
          <p:cNvSpPr/>
          <p:nvPr/>
        </p:nvSpPr>
        <p:spPr>
          <a:xfrm flipH="1">
            <a:off x="457200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6"/>
          <p:cNvSpPr/>
          <p:nvPr/>
        </p:nvSpPr>
        <p:spPr>
          <a:xfrm flipH="1">
            <a:off x="471492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183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7423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857240" y="1785960"/>
            <a:ext cx="7234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072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229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7T09:19:1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